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308-5CC7-4F4B-89C2-AB226ABD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3BC-959E-4010-B0DB-F589F53B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CBB-5E6A-434A-B1D2-FEB9E52D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45B-F5F1-4D2B-AAC4-70054C14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CB5B-DE83-4575-B1CA-C5BD1D74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B7C-117D-4707-A9F0-51914069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0911-529E-4FE8-B3CD-3E8D38FF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D53-083B-4C16-8023-5274831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371C-5A91-466B-9094-660BD9F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6931-1686-4FEC-8AFA-D77FB51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448B-924E-469B-AF57-4136E80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CE4-F42E-45AD-A845-D258F49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050-D91C-47E0-AFAE-DFE7745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6EC-1244-4B65-89F6-9D17D54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85BA-1789-419D-A049-884193E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97E-BAF0-4348-8065-5F174B20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A87-E793-494A-8545-6366C4E4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AA8-C96F-49F0-BF25-DE8846A1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801-C0B1-4A46-8079-FE7CADA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79F-E872-426E-A8ED-BF1C6D92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082-C4CE-4C35-B94E-76CC506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675-B8DA-4B7B-9734-7B8AAAF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2BD-F4FA-428D-B5ED-7A7B91D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82F-7092-4962-9DDD-A5B650C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DAED-82E7-48EC-A336-1E17B419D26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39B1-502D-4EA0-B631-0DB2772C62F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Isai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I can use what I have learned about the way my brain works in school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do this when 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 work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Style is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 rot="729600">
            <a:off x="3700080" y="1218960"/>
            <a:ext cx="5443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My learning technique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best by doing and that I’m very creativ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intelligence type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t Means That 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best by doing and that I’m very creativ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490920" y="281952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 found out that the left hemisphere of my brain i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t ver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 found out that the right hemisphere of my brain i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very ac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It’s important to learn how your brain works because</a:t>
            </a:r>
            <a:r>
              <a:rPr b="0" lang="en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you’ll know how to help yourself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133720" y="2855880"/>
            <a:ext cx="2914560" cy="3087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2405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8:43Z</dcterms:created>
  <dc:creator>Stephanie Ann Rhodes</dc:creator>
  <dc:description/>
  <dc:language>en-US</dc:language>
  <cp:lastModifiedBy>Stephanie Ann Rhodes</cp:lastModifiedBy>
  <dcterms:modified xsi:type="dcterms:W3CDTF">2010-10-26T13:45:34Z</dcterms:modified>
  <cp:revision>6</cp:revision>
  <dc:subject/>
  <dc:title>My Personal Learning Profile</dc:title>
</cp:coreProperties>
</file>